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12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6CAA-A1F2-442A-A0E6-5722669BD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762C-D068-4356-8851-F965602F0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6524-AFB9-4AD8-84B5-FA024A351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A181-6947-4E97-A6FF-9E7A707F8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47F3-C1C6-4D94-93E6-D19A646F4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9A56-0F7E-4773-B3A7-C206C6015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010F-5C5A-48EB-8954-8F16A2F8A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707B-63D0-40F7-8DD5-5EC03A008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D787-FBF4-4FE2-BAAF-0B00D7D24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F659-7F18-4F57-A88F-2EDFB684B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1CCE-885A-4371-85A5-8EAC031FF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BCB5-D20C-4B90-B996-B0DE9ABA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0240C-EE87-4452-9261-3B60E2EF3FE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qhd9z.com/Article_Print.asp?ArticleID=66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pics.dahangzhou.com/HtmlPage/2005-06-13/XZ_4815_1.htm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pics.dahangzhou.com/HtmlPage/2005-06-13/XZ_4815_1.htm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sucai.dabaoku.com/shejilei/bj/web/454.htm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pics.dahangzhou.com/HtmlPage/2005-06-13/XZ_4815_1.htm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pics.dahangzhou.com/HtmlPage/2005-06-13/XZ_4815_1.htm" TargetMode="External"/><Relationship Id="rId2" Type="http://schemas.openxmlformats.org/officeDocument/2006/relationships/image" Target="../media/image6.jpeg"/><Relationship Id="rId3" Type="http://schemas.openxmlformats.org/officeDocument/2006/relationships/slide" Target="slide16.xm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pics.dahangzhou.com/HtmlPage/2005-06-13/XZ_4815_1.htm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qufu123.com/bbs/printpage.asp?BoardID=21&amp;ID=75065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ivsky.com/Photo/484/84734.html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ivsky.com/Photo/484/84734.html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ivsky.com/Photo/484/84734.html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vsky.com/Photo/484/84734.html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forum.bjradio.cn/?16977/spacelist-bbs-view-image-page-2.html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ucai.dabaoku.com/shejilei/bj/web/454.htm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pics.dahangzhou.com/HtmlPage/2005-06-13/XZ_4815_1.htm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pics.dahangzhou.com/HtmlPage/2005-06-13/XZ_4815_1.htm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qufu123.com/bbs/printpage.asp?BoardID=21&amp;ID=75065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1"/>
          </p:cNvPr>
          <p:cNvPicPr/>
          <p:nvPr/>
        </p:nvPicPr>
        <p:blipFill>
          <a:blip r:embed="rId2"/>
          <a:srcRect l="0" t="22219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088800" y="2492280"/>
            <a:ext cx="2855520" cy="187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赵州桥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>
            <a:hlinkClick r:id="rId1"/>
          </p:cNvPr>
          <p:cNvPicPr/>
          <p:nvPr/>
        </p:nvPicPr>
        <p:blipFill>
          <a:blip r:embed="rId2"/>
          <a:srcRect l="0" t="0" r="0" b="379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333360"/>
            <a:ext cx="91440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赵州桥非常雄伟。桥长五十多米，有九米多宽，中间行车马，两旁走人。这么长的桥，全部用石头砌成，下面没有桥墩，只有一个拱形的大桥洞，横跨在三十七米多宽的河面上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852640"/>
            <a:ext cx="939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547640" y="3887640"/>
          <a:ext cx="6193080" cy="2494080"/>
        </p:xfrm>
        <a:graphic>
          <a:graphicData uri="http://schemas.openxmlformats.org/drawingml/2006/table">
            <a:tbl>
              <a:tblPr/>
              <a:tblGrid>
                <a:gridCol w="2394000"/>
                <a:gridCol w="1995480"/>
                <a:gridCol w="1803600"/>
              </a:tblGrid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温州大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48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南京长江大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89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．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赵州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>
            <a:hlinkClick r:id="rId1"/>
          </p:cNvPr>
          <p:cNvPicPr/>
          <p:nvPr/>
        </p:nvPicPr>
        <p:blipFill>
          <a:blip r:embed="rId2"/>
          <a:srcRect l="0" t="0" r="0" b="1956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7" name=""/>
          <p:cNvGrpSpPr/>
          <p:nvPr/>
        </p:nvGrpSpPr>
        <p:grpSpPr>
          <a:xfrm>
            <a:off x="228600" y="533520"/>
            <a:ext cx="2362320" cy="2511360"/>
            <a:chOff x="228600" y="533520"/>
            <a:chExt cx="2362320" cy="2511360"/>
          </a:xfrm>
        </p:grpSpPr>
        <p:pic>
          <p:nvPicPr>
            <p:cNvPr id="68" name="" descr=""/>
            <p:cNvPicPr/>
            <p:nvPr/>
          </p:nvPicPr>
          <p:blipFill>
            <a:blip r:embed="rId3"/>
            <a:stretch/>
          </p:blipFill>
          <p:spPr>
            <a:xfrm>
              <a:off x="228600" y="533520"/>
              <a:ext cx="2362320" cy="251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721800" y="588960"/>
              <a:ext cx="132372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县</a:t>
              </a:r>
              <a:endParaRPr b="0" lang="en-US" sz="1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276720" y="533520"/>
            <a:ext cx="2361960" cy="2511360"/>
            <a:chOff x="3276720" y="533520"/>
            <a:chExt cx="2361960" cy="2511360"/>
          </a:xfrm>
        </p:grpSpPr>
        <p:pic>
          <p:nvPicPr>
            <p:cNvPr id="71" name="" descr=""/>
            <p:cNvPicPr/>
            <p:nvPr/>
          </p:nvPicPr>
          <p:blipFill>
            <a:blip r:embed="rId4"/>
            <a:stretch/>
          </p:blipFill>
          <p:spPr>
            <a:xfrm>
              <a:off x="3276720" y="533520"/>
              <a:ext cx="2361960" cy="251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3769200" y="588960"/>
              <a:ext cx="132372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设</a:t>
              </a:r>
              <a:endParaRPr b="0" lang="en-US" sz="1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6172200" y="533520"/>
            <a:ext cx="2362320" cy="2511360"/>
            <a:chOff x="6172200" y="533520"/>
            <a:chExt cx="2362320" cy="2511360"/>
          </a:xfrm>
        </p:grpSpPr>
        <p:pic>
          <p:nvPicPr>
            <p:cNvPr id="74" name="" descr=""/>
            <p:cNvPicPr/>
            <p:nvPr/>
          </p:nvPicPr>
          <p:blipFill>
            <a:blip r:embed="rId5"/>
            <a:stretch/>
          </p:blipFill>
          <p:spPr>
            <a:xfrm>
              <a:off x="6172200" y="533520"/>
              <a:ext cx="2362320" cy="251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6665400" y="588960"/>
              <a:ext cx="132372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参</a:t>
              </a:r>
              <a:endParaRPr b="0" lang="en-US" sz="1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304920" y="3962520"/>
            <a:ext cx="2361960" cy="2511360"/>
            <a:chOff x="304920" y="3962520"/>
            <a:chExt cx="2361960" cy="2511360"/>
          </a:xfrm>
        </p:grpSpPr>
        <p:pic>
          <p:nvPicPr>
            <p:cNvPr id="77" name="" descr=""/>
            <p:cNvPicPr/>
            <p:nvPr/>
          </p:nvPicPr>
          <p:blipFill>
            <a:blip r:embed="rId6"/>
            <a:stretch/>
          </p:blipFill>
          <p:spPr>
            <a:xfrm>
              <a:off x="304920" y="3962520"/>
              <a:ext cx="2361960" cy="251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797400" y="4017960"/>
              <a:ext cx="132372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部</a:t>
              </a:r>
              <a:endParaRPr b="0" lang="en-US" sz="1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3352680" y="3870360"/>
            <a:ext cx="2362320" cy="2511360"/>
            <a:chOff x="3352680" y="3870360"/>
            <a:chExt cx="2362320" cy="2511360"/>
          </a:xfrm>
        </p:grpSpPr>
        <p:pic>
          <p:nvPicPr>
            <p:cNvPr id="80" name="" descr=""/>
            <p:cNvPicPr/>
            <p:nvPr/>
          </p:nvPicPr>
          <p:blipFill>
            <a:blip r:embed="rId7"/>
            <a:stretch/>
          </p:blipFill>
          <p:spPr>
            <a:xfrm>
              <a:off x="3352680" y="3870360"/>
              <a:ext cx="2362320" cy="251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3845880" y="3925800"/>
              <a:ext cx="132372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横</a:t>
              </a:r>
              <a:endParaRPr b="0" lang="en-US" sz="1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6248520" y="3886200"/>
            <a:ext cx="2361960" cy="2511360"/>
            <a:chOff x="6248520" y="3886200"/>
            <a:chExt cx="2361960" cy="2511360"/>
          </a:xfrm>
        </p:grpSpPr>
        <p:pic>
          <p:nvPicPr>
            <p:cNvPr id="83" name="" descr=""/>
            <p:cNvPicPr/>
            <p:nvPr/>
          </p:nvPicPr>
          <p:blipFill>
            <a:blip r:embed="rId8"/>
            <a:stretch/>
          </p:blipFill>
          <p:spPr>
            <a:xfrm>
              <a:off x="6248520" y="3886200"/>
              <a:ext cx="2361960" cy="251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6741000" y="3941640"/>
              <a:ext cx="132372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跨</a:t>
              </a:r>
              <a:endParaRPr b="0" lang="en-US" sz="1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044880" y="692280"/>
            <a:ext cx="3129840" cy="205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900" spc="-1" strike="noStrike">
                <a:solidFill>
                  <a:srgbClr val="000000"/>
                </a:solidFill>
                <a:latin typeface="Arial"/>
                <a:ea typeface="楷体_GB2312"/>
              </a:rPr>
              <a:t>赵州桥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68360" y="1555200"/>
            <a:ext cx="8137440" cy="33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赵   济   匠   砌   横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坚   雕   抵   智   慧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>
            <a:hlinkClick r:id="rId1"/>
          </p:cNvPr>
          <p:cNvPicPr/>
          <p:nvPr/>
        </p:nvPicPr>
        <p:blipFill>
          <a:blip r:embed="rId2"/>
          <a:srcRect l="0" t="0" r="0" b="1956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39640" y="0"/>
            <a:ext cx="8207640" cy="206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赵州桥非常雄伟。桥长五十多米，有九米多宽，中间行车马，两旁走人。这么长的桥，全部用石头砌成，下面没有桥墩，只有一个拱形的大桥洞，横跨在三十七米多宽的河面上。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桥洞顶上的左右两边，还各有两个拱形的小桥洞。平时，河水从大桥洞流过，发大水的时候，河水还可以从四个小桥洞流过。这种设计，在建桥史上是一个创举，既减轻了流水对桥身的冲击力，使桥不容易被大水冲毁，又减轻了桥身的重量，节省了石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>
            <a:hlinkClick r:id="rId1"/>
          </p:cNvPr>
          <p:cNvPicPr/>
          <p:nvPr/>
        </p:nvPicPr>
        <p:blipFill>
          <a:blip r:embed="rId2"/>
          <a:srcRect l="0" t="0" r="0" b="1956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11280" y="1628640"/>
            <a:ext cx="799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种设计，在建桥史上是一个创举，既减轻了流水对桥身的冲击力，使桥不容易被大水冲毁，又减轻了桥身的重量，节省了石料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403280" y="4653000"/>
            <a:ext cx="669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不但……而且…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11280" y="1628640"/>
            <a:ext cx="7991280" cy="78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3" action="ppaction://hlinksldjump"/>
              </a:rPr>
              <a:t>这种设计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在建桥史上是一个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创举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既减轻了流水对桥身的冲击力，使桥不容易被大水冲毁，又减轻了桥身的重量，节省了石料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89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桥洞顶上的左右两边，还各有两个拱形的小桥洞。平时，河水从大桥洞流过，发大水时，河水还可以从四个小桥洞流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0" t="22219" r="0" b="39514"/>
          <a:stretch/>
        </p:blipFill>
        <p:spPr>
          <a:xfrm>
            <a:off x="0" y="2060640"/>
            <a:ext cx="914400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>
            <a:hlinkClick r:id="rId1"/>
          </p:cNvPr>
          <p:cNvPicPr/>
          <p:nvPr/>
        </p:nvPicPr>
        <p:blipFill>
          <a:blip r:embed="rId2"/>
          <a:srcRect l="0" t="0" r="0" b="1956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39640" y="0"/>
            <a:ext cx="8207640" cy="206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赵州桥非常雄伟。桥长五十多米，有九米多宽，中间行车马，两旁走人。这么长的桥，全部用石头砌成，下面没有桥墩，只有一个拱形的大桥洞，横跨在三十七米多宽的河面上。大桥洞顶上的左右两边，还各有两个拱形的小桥洞。平时，河水从大桥洞流过，发大水的时候，河水还可以从四个小桥洞流过。这种设计，在建桥史上是一个创举，既减轻了流水对桥身的冲击力，使桥不容易被大水冲毁，又减轻了桥身的重量，节省了石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rcRect l="0" t="0" r="0" b="1956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68360" y="1678680"/>
            <a:ext cx="8281800" cy="25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座桥不但坚固，而且美观。桥面两侧有石栏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栏板上雕刻着精美的图案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的刻着两条相互缠绕的龙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嘴里吐出美丽的水花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的刻着两条飞龙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前爪相互抵着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各自回首遥望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还有的刻着双龙戏珠。所有的龙似乎都在游动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真像活了一样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411280" y="0"/>
            <a:ext cx="4248360" cy="21574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340000" y="2133720"/>
            <a:ext cx="4319640" cy="25574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2340000" y="4673520"/>
            <a:ext cx="431964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rcRect l="0" t="0" r="0" b="1956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68360" y="1318320"/>
            <a:ext cx="8281800" cy="25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座桥不但坚固，而且美观。桥面两侧有石栏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栏板上雕刻着精美的图案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有的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刻着两条相互缠绕的龙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嘴里吐出美丽的水花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有的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刻着两条飞龙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前爪相互抵着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各自回首遥望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还有的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刻着双龙戏珠。所有的龙似乎都在游动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真像活了一样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64160" y="5589720"/>
            <a:ext cx="530136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有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……有的……还有的……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50920" y="2060640"/>
            <a:ext cx="871380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赵州桥表现了劳动人民的智慧和才干，是我国宝贵的历史遗产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rcRect l="0" t="22219" r="0" b="39514"/>
          <a:stretch/>
        </p:blipFill>
        <p:spPr>
          <a:xfrm>
            <a:off x="0" y="2060640"/>
            <a:ext cx="9144000" cy="4797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692360" y="456120"/>
            <a:ext cx="6568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百尺高虹横水面，一弯新月出云霄。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2" name=""/>
          <p:cNvGrpSpPr/>
          <p:nvPr/>
        </p:nvGrpSpPr>
        <p:grpSpPr>
          <a:xfrm>
            <a:off x="611280" y="476280"/>
            <a:ext cx="2361960" cy="2511360"/>
            <a:chOff x="611280" y="476280"/>
            <a:chExt cx="2361960" cy="2511360"/>
          </a:xfrm>
        </p:grpSpPr>
        <p:pic>
          <p:nvPicPr>
            <p:cNvPr id="113" name="" descr=""/>
            <p:cNvPicPr/>
            <p:nvPr/>
          </p:nvPicPr>
          <p:blipFill>
            <a:blip r:embed="rId3"/>
            <a:stretch/>
          </p:blipFill>
          <p:spPr>
            <a:xfrm>
              <a:off x="611280" y="476280"/>
              <a:ext cx="2361960" cy="251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1100520" y="531720"/>
              <a:ext cx="132372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举</a:t>
              </a:r>
              <a:endParaRPr b="0" lang="en-US" sz="1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492360" y="476280"/>
            <a:ext cx="2362320" cy="2511360"/>
            <a:chOff x="3492360" y="476280"/>
            <a:chExt cx="2362320" cy="2511360"/>
          </a:xfrm>
        </p:grpSpPr>
        <p:pic>
          <p:nvPicPr>
            <p:cNvPr id="116" name="" descr=""/>
            <p:cNvPicPr/>
            <p:nvPr/>
          </p:nvPicPr>
          <p:blipFill>
            <a:blip r:embed="rId4"/>
            <a:stretch/>
          </p:blipFill>
          <p:spPr>
            <a:xfrm>
              <a:off x="3492360" y="476280"/>
              <a:ext cx="2362320" cy="251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3982320" y="531720"/>
              <a:ext cx="132372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击</a:t>
              </a:r>
              <a:endParaRPr b="0" lang="en-US" sz="1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6227640" y="476280"/>
            <a:ext cx="2362320" cy="2511360"/>
            <a:chOff x="6227640" y="476280"/>
            <a:chExt cx="2362320" cy="2511360"/>
          </a:xfrm>
        </p:grpSpPr>
        <p:pic>
          <p:nvPicPr>
            <p:cNvPr id="119" name="" descr=""/>
            <p:cNvPicPr/>
            <p:nvPr/>
          </p:nvPicPr>
          <p:blipFill>
            <a:blip r:embed="rId5"/>
            <a:stretch/>
          </p:blipFill>
          <p:spPr>
            <a:xfrm>
              <a:off x="6227640" y="476280"/>
              <a:ext cx="2362320" cy="251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6717600" y="531720"/>
              <a:ext cx="132372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坚</a:t>
              </a:r>
              <a:endParaRPr b="0" lang="en-US" sz="1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11280" y="3933720"/>
            <a:ext cx="2361960" cy="2511360"/>
            <a:chOff x="611280" y="3933720"/>
            <a:chExt cx="2361960" cy="2511360"/>
          </a:xfrm>
        </p:grpSpPr>
        <p:pic>
          <p:nvPicPr>
            <p:cNvPr id="122" name="" descr=""/>
            <p:cNvPicPr/>
            <p:nvPr/>
          </p:nvPicPr>
          <p:blipFill>
            <a:blip r:embed="rId6"/>
            <a:stretch/>
          </p:blipFill>
          <p:spPr>
            <a:xfrm>
              <a:off x="611280" y="3933720"/>
              <a:ext cx="2361960" cy="251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1100520" y="3989160"/>
              <a:ext cx="132372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固</a:t>
              </a:r>
              <a:endParaRPr b="0" lang="en-US" sz="1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3492360" y="3933720"/>
            <a:ext cx="2362320" cy="2511360"/>
            <a:chOff x="3492360" y="3933720"/>
            <a:chExt cx="2362320" cy="2511360"/>
          </a:xfrm>
        </p:grpSpPr>
        <p:pic>
          <p:nvPicPr>
            <p:cNvPr id="125" name="" descr=""/>
            <p:cNvPicPr/>
            <p:nvPr/>
          </p:nvPicPr>
          <p:blipFill>
            <a:blip r:embed="rId7"/>
            <a:stretch/>
          </p:blipFill>
          <p:spPr>
            <a:xfrm>
              <a:off x="3492360" y="3933720"/>
              <a:ext cx="2362320" cy="251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3982320" y="3989160"/>
              <a:ext cx="132372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栏</a:t>
              </a:r>
              <a:endParaRPr b="0" lang="en-US" sz="1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227640" y="3933720"/>
            <a:ext cx="2362320" cy="2511360"/>
            <a:chOff x="6227640" y="3933720"/>
            <a:chExt cx="2362320" cy="2511360"/>
          </a:xfrm>
        </p:grpSpPr>
        <p:pic>
          <p:nvPicPr>
            <p:cNvPr id="128" name="" descr=""/>
            <p:cNvPicPr/>
            <p:nvPr/>
          </p:nvPicPr>
          <p:blipFill>
            <a:blip r:embed="rId8"/>
            <a:stretch/>
          </p:blipFill>
          <p:spPr>
            <a:xfrm>
              <a:off x="6227640" y="3933720"/>
              <a:ext cx="2362320" cy="251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6717600" y="3989160"/>
              <a:ext cx="132372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案</a:t>
              </a:r>
              <a:endParaRPr b="0" lang="en-US" sz="1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1" name=""/>
          <p:cNvGrpSpPr/>
          <p:nvPr/>
        </p:nvGrpSpPr>
        <p:grpSpPr>
          <a:xfrm>
            <a:off x="1835280" y="907920"/>
            <a:ext cx="2361960" cy="2511720"/>
            <a:chOff x="1835280" y="907920"/>
            <a:chExt cx="2361960" cy="2511720"/>
          </a:xfrm>
        </p:grpSpPr>
        <p:pic>
          <p:nvPicPr>
            <p:cNvPr id="132" name="" descr=""/>
            <p:cNvPicPr/>
            <p:nvPr/>
          </p:nvPicPr>
          <p:blipFill>
            <a:blip r:embed="rId3"/>
            <a:stretch/>
          </p:blipFill>
          <p:spPr>
            <a:xfrm>
              <a:off x="1835280" y="907920"/>
              <a:ext cx="2361960" cy="251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2324520" y="963360"/>
              <a:ext cx="132372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爪</a:t>
              </a:r>
              <a:endParaRPr b="0" lang="en-US" sz="1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5076720" y="907920"/>
            <a:ext cx="2362320" cy="2511720"/>
            <a:chOff x="5076720" y="907920"/>
            <a:chExt cx="2362320" cy="2511720"/>
          </a:xfrm>
        </p:grpSpPr>
        <p:pic>
          <p:nvPicPr>
            <p:cNvPr id="135" name="" descr=""/>
            <p:cNvPicPr/>
            <p:nvPr/>
          </p:nvPicPr>
          <p:blipFill>
            <a:blip r:embed="rId4"/>
            <a:stretch/>
          </p:blipFill>
          <p:spPr>
            <a:xfrm>
              <a:off x="5076720" y="907920"/>
              <a:ext cx="2362320" cy="251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5566680" y="963360"/>
              <a:ext cx="132372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贵</a:t>
              </a:r>
              <a:endParaRPr b="0" lang="en-US" sz="1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332000" y="404640"/>
            <a:ext cx="7086600" cy="75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坚固      坚强     坚持   坚定      坚决     牢固   固定      栏杆     栏板   横跨      跨步     跨越   举动      举止     举重  举手      高贵     名贵  宝贵      富贵     贵重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楷体_GB2312"/>
              </a:rPr>
              <a:t>赵州桥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00000" y="1988640"/>
            <a:ext cx="78487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下第一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世界奇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制造奇特，人不知其所以为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0920" y="2060640"/>
            <a:ext cx="871380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赵州桥表现了劳动人民的智慧和才干，是我国宝贵的历史遗产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1122840"/>
            <a:ext cx="9144000" cy="420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赵县  洨河  安济桥  隋朝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石匠  桥墩   砌成   横跨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坚固  雕刻   缠绕   智慧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>
            <a:hlinkClick r:id="rId1"/>
          </p:cNvPr>
          <p:cNvPicPr/>
          <p:nvPr/>
        </p:nvPicPr>
        <p:blipFill>
          <a:blip r:embed="rId2"/>
          <a:srcRect l="0" t="0" r="0" b="379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312440" y="619200"/>
            <a:ext cx="5158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赵州桥非常雄伟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这座桥不但坚固，而且美观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>
            <a:hlinkClick r:id="rId1"/>
          </p:cNvPr>
          <p:cNvPicPr/>
          <p:nvPr/>
        </p:nvPicPr>
        <p:blipFill>
          <a:blip r:embed="rId2"/>
          <a:srcRect l="0" t="0" r="0" b="379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50920" y="333360"/>
            <a:ext cx="871380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河北省赵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县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iàn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的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洨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iáo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河上，有一座世界闻名的石拱桥，叫安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济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jì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桥，又叫赵州桥。它是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隋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uí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朝的石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匠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jiàng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李春设计和参加建造的，到现在已经有一千三百多年了。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11280" y="3500280"/>
            <a:ext cx="81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河北省赵县的洨河上，有一座世界闻名的石拱桥，叫安济桥，又叫赵州桥。它是隋朝的石匠李春设计和参加建造的，到现在已经有一千三百多年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04000" y="404640"/>
            <a:ext cx="2050920" cy="792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地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77080" y="1484280"/>
            <a:ext cx="1871640" cy="792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设计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732720" y="2492280"/>
            <a:ext cx="2232000" cy="792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历史悠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89000"/>
            <a:ext cx="637200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8410320" cy="56008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395440" y="5375160"/>
            <a:ext cx="338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河北   赵县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1T08:47:41Z</dcterms:created>
  <dc:creator>潘阳</dc:creator>
  <dc:description/>
  <dc:language>en-US</dc:language>
  <cp:lastModifiedBy>py</cp:lastModifiedBy>
  <dcterms:modified xsi:type="dcterms:W3CDTF">2007-11-15T03:00:53Z</dcterms:modified>
  <cp:revision>39</cp:revision>
  <dc:subject/>
  <dc:title>赵州桥</dc:title>
</cp:coreProperties>
</file>